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6691-C2F4-483D-BC36-EA072475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4D59-C96D-4B8D-BA28-A22E5110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8505-D32D-43C4-B9AC-7E2760B6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7DF0-CC06-49D7-B168-5386E60A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10B2-58AC-46D6-8E65-57BD4C71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701B-D5E0-431B-BEFA-97AF8D24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7253-129E-4E79-A1B4-CDD55386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1F2E-522E-4B15-9244-3FA560D9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E375-B40D-43C5-AA8B-9625A95A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0FBC-0B38-4545-B483-539AE87E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FD43-B498-423C-BBCE-95320A75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436E-3A0A-4AA6-B583-509B93BD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A0F1-AAB4-41D5-89C1-A546765F2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sia de Sud este o regiune de platouri şi munţi înalţi. Platouri există îndeosebi în partea sudică [...]. În schim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 de pe glob, inclusiv cel mai înalt pisc: Chomolungma, cu 884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cestă regiune există şi câmpii, fără să egalez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s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este una dintre cele mai populate regiuni ale continentului 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otodat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e pe întreaga planetă: concentrează mai mult de o treime din populaţia Asiei. Totu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Asia de Su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ceanul Indian, cu cei 73,4 milioane km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i săi, este al treilea ca întindere între oceanele plan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5T12:33:57Z</dcterms:modified>
  <cp:revision>38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